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0DC4A-800B-4E8D-A31E-27D873AC9A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12715-EA5D-4FF9-9CE5-D794015BA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 Constitution establishes who has power and how that power is exerci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B097E-E6C6-4E34-AC18-50473B4DB4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EAF03-EFA4-4670-B959-1B425279A2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485-CF82-41F3-A6C3-E4DB4330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0F9-02B4-41A0-9FD8-98AAF470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FB8-E41F-4CB6-B157-2EA29E2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B02-B5E3-4273-9FD1-EAA8BFEC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8F2-6144-429A-8EF3-36F89DB2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56D-45E0-4743-8FA0-E47B21CD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DF6-0FDC-45AF-A2A3-27132D0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E12-E5B9-4495-9584-9E52BFD4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234-4AC8-4FBD-8082-E075E449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C9E-4969-4408-8C10-1165264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D2E-EF1A-4A34-AC27-7E4E094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E51-EDB5-4CDF-A9B4-52D3367F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D13E1-1924-4A96-8687-11FA6980CD7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E008F-1050-4B82-A086-1E861E998D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.com/shows/america-the-story-of-us/videos/declaration-of-independence#declaration-of-independ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rigins of the Constit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656320"/>
            <a:ext cx="6400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hapter 2 – The Constitution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pp. 31-37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866960" y="163836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titu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9360" y="1600200"/>
            <a:ext cx="502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it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nation’s basic law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s political institu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ocates power within 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guarantees to citize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575320" y="1417680"/>
            <a:ext cx="3111480" cy="28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450120" y="448956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English Herit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Chapter IX from John Locke’s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econd Treatise of Civil Govern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Answer these question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y do men agree to be governed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is the chief aim of government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xplain the three defects/wants that exist in a state of natur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powers does man have in a state of nature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limits should be placed on government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claration of Independenc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the text of the Declaration of Independence on pp. 704-706 and answer the following ques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reasons for independence were offered in the Declaration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were some of the specific grievances of King George listed in the Declaratio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merica: The Story of Us Video Cli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043000" y="5778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nning Independenc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66704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am well aware of the toil, blood, and treasure that it will cost us to maintain this Declaration, and support and defend these stat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” – John Ada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338560" y="1417680"/>
            <a:ext cx="465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07:22Z</dcterms:created>
  <dc:creator>Katie Madison</dc:creator>
  <dc:description/>
  <dc:language>en-US</dc:language>
  <cp:lastModifiedBy>FAdmin</cp:lastModifiedBy>
  <dcterms:modified xsi:type="dcterms:W3CDTF">2011-08-29T14:32:41Z</dcterms:modified>
  <cp:revision>5</cp:revision>
  <dc:subject/>
  <dc:title>The Origins of the Constitution</dc:title>
</cp:coreProperties>
</file>